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23.wmf" ContentType="image/x-wmf"/>
  <Override PartName="/ppt/media/image9.png" ContentType="image/png"/>
  <Override PartName="/ppt/media/image8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14.wmf" ContentType="image/x-wmf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620-0111-42BA-A854-DC12E505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4ED-93EC-4572-8BF3-94F83E89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66B-B434-4A4E-9F23-6D3FD0A8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308-BFB5-409F-9840-E95F7DB3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60D-49B4-4780-8184-D786CA99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E8E-6655-405D-B4F9-6B445EE5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753-ED50-480A-B80D-E4559103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77B-7888-4B0A-B96A-93D2E522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998-AD80-4C2F-A155-0828230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1B8-2CC7-416C-8DBF-1D7F87C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D9A-6908-48BB-9725-A23A473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B93-5730-4941-B632-4E42936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F9F-B648-4516-B309-18513C9A4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history.com/news/wp-content/uploads/2012/04/spanish-american-war.jp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The Spanish American War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it 4 – Conflict and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Users\lathomps\AppData\Local\Microsoft\Windows\Temporary Internet Files\Content.IE5\1A33VABU\MC900429205[1].wmf"/>
          <p:cNvPicPr/>
          <p:nvPr/>
        </p:nvPicPr>
        <p:blipFill>
          <a:blip r:embed="rId1"/>
          <a:stretch/>
        </p:blipFill>
        <p:spPr>
          <a:xfrm>
            <a:off x="3581280" y="1295280"/>
            <a:ext cx="5334120" cy="5426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 wanted to open trade with other countries for new/more goods an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2057400" y="196200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y would the United States want to own an island in the middle of the oc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9907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ueling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fic islands were ideal for ships to stop and refuel when headed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way I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ke I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wa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oa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MEMBER WE DID THESE ON YOUR MAP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s://static.garmincdn.com/en/products/010-C0728-20/g/cm-md.jpg"/>
          <p:cNvPicPr/>
          <p:nvPr/>
        </p:nvPicPr>
        <p:blipFill>
          <a:blip r:embed="rId1"/>
          <a:stretch/>
        </p:blipFill>
        <p:spPr>
          <a:xfrm>
            <a:off x="3200400" y="2757600"/>
            <a:ext cx="58230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447920" y="303120"/>
            <a:ext cx="6707160" cy="6402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1887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do we get to other countries so that we can trade goods with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rom the United States, what is the quickest way to As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wanted to get from Virginia Beach to San Francisco, what route would you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1.ibtimes.com/sites/www.ibtimes.com/files/styles/v2_article_large/public/2013/10/14/tpp-map.JPG"/>
          <p:cNvPicPr/>
          <p:nvPr/>
        </p:nvPicPr>
        <p:blipFill>
          <a:blip r:embed="rId1"/>
          <a:stretch/>
        </p:blipFill>
        <p:spPr>
          <a:xfrm>
            <a:off x="0" y="555480"/>
            <a:ext cx="9282240" cy="5845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949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rade ro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Quicker way to get to Asia and the West Coast of the U.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Increased global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905120" y="1143000"/>
            <a:ext cx="5790960" cy="556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would the United States make more money by acquiring 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eofdreams.com/data_images/dreams/money/money-01.jp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conomic Interes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panded market to global 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ade more MON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447920" y="227160"/>
            <a:ext cx="6707160" cy="647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d the US get what they wanted as far as natural resources, refueling stations, new trade routes and more money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wwe24seven.com/images/115/daniel-bryan-yes-yes-yes-wallpaper.jpg"/>
          <p:cNvPicPr/>
          <p:nvPr/>
        </p:nvPicPr>
        <p:blipFill>
          <a:blip r:embed="rId1"/>
          <a:stretch/>
        </p:blipFill>
        <p:spPr>
          <a:xfrm>
            <a:off x="1764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0188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cruisebrothers.com/images/Destinations/Alaska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90720"/>
            <a:ext cx="92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owned Alaska prior to it becoming a US territor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Users\lathomps\AppData\Local\Microsoft\Windows\Temporary Internet Files\Content.IE5\7CHU5YAJ\MC900078622[1].wmf"/>
          <p:cNvPicPr/>
          <p:nvPr/>
        </p:nvPicPr>
        <p:blipFill>
          <a:blip r:embed="rId2"/>
          <a:stretch/>
        </p:blipFill>
        <p:spPr>
          <a:xfrm flipH="1">
            <a:off x="6781680" y="1776240"/>
            <a:ext cx="23623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images.rcp.realclearpolitics.com/71175_5_.jpg"/>
          <p:cNvPicPr/>
          <p:nvPr/>
        </p:nvPicPr>
        <p:blipFill>
          <a:blip r:embed="rId1"/>
          <a:stretch/>
        </p:blipFill>
        <p:spPr>
          <a:xfrm>
            <a:off x="0" y="152280"/>
            <a:ext cx="9153360" cy="6096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shington’s Farewell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t a PRECEDENT by stepping down after only 8 years in off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s speech urged the U.S.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tay Neutr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void Sectionalism (</a:t>
            </a:r>
            <a:r>
              <a:rPr b="1" i="1" lang="en-US" sz="3600" spc="-1" strike="noStrike">
                <a:solidFill>
                  <a:srgbClr val="ffffff"/>
                </a:solidFill>
                <a:latin typeface="Calibri"/>
              </a:rPr>
              <a:t>loyalty to one section of a country instead of the entire country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:\Users\lathomps\AppData\Local\Microsoft\Windows\Temporary Internet Files\Content.IE5\EA3P6LHK\MC900436940[1].wmf"/>
          <p:cNvPicPr/>
          <p:nvPr/>
        </p:nvPicPr>
        <p:blipFill>
          <a:blip r:embed="rId1"/>
          <a:stretch/>
        </p:blipFill>
        <p:spPr>
          <a:xfrm>
            <a:off x="685800" y="30240"/>
            <a:ext cx="7577280" cy="6827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chasing Ala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749600"/>
            <a:ext cx="91440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chased from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.S. wanted to trade with A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retary of State William Seward bought for $7.2 mill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at’s only .02 a ac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s said it was a “frozen wasteland”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ward’s Folly, Polar Bear Garden…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rned out to be a resource-rich terr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t2.gstatic.com/images?q=tbn:ANd9GcSiI8XC4SzKUeuCC0b4vpx4DRIGvNTuYpbyvkxy1FOUE_-B4Ixf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62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CALL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did we need/want from Hawai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lathomps\AppData\Local\Microsoft\Windows\Temporary Internet Files\Content.IE5\7CHU5YAJ\MC900078622[1].wmf"/>
          <p:cNvPicPr/>
          <p:nvPr/>
        </p:nvPicPr>
        <p:blipFill>
          <a:blip r:embed="rId2"/>
          <a:stretch/>
        </p:blipFill>
        <p:spPr>
          <a:xfrm>
            <a:off x="152280" y="2203560"/>
            <a:ext cx="2057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http://ww3.hdnux.com/photos/15/02/11/3416666/3/628x471.jpg"/>
          <p:cNvPicPr/>
          <p:nvPr/>
        </p:nvPicPr>
        <p:blipFill>
          <a:blip r:embed="rId1"/>
          <a:stretch/>
        </p:blipFill>
        <p:spPr>
          <a:xfrm>
            <a:off x="2209680" y="-11160"/>
            <a:ext cx="5229360" cy="6899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Overseas Expa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816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nnexation of Hawai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een Liliuokalani wa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verthrow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by U.S. Mari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.S. businessmen took over Hawaii because of thei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ugar c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siden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cKinley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ordered the “stealing” of Hawai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came a U.S. territory in July 18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447920" y="227160"/>
            <a:ext cx="6707160" cy="6630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ook at ANYTHING you have on you right 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Where was it mad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travel.nationalgeographic.com/places/images/photos/photo_lg_china.jpg"/>
          <p:cNvPicPr/>
          <p:nvPr/>
        </p:nvPicPr>
        <p:blipFill>
          <a:blip r:embed="rId1"/>
          <a:stretch/>
        </p:blipFill>
        <p:spPr>
          <a:xfrm>
            <a:off x="-76320" y="0"/>
            <a:ext cx="942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Overseas Expa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n Door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ary of State John Hay wanted all countries to trade with China on an equal b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untries responded NEITHER yes or 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publicly announced all countries were on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it a minute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cdn.meme.li/images/7565499.jpg"/>
          <p:cNvPicPr/>
          <p:nvPr/>
        </p:nvPicPr>
        <p:blipFill>
          <a:blip r:embed="rId1"/>
          <a:stretch/>
        </p:blipFill>
        <p:spPr>
          <a:xfrm>
            <a:off x="4724280" y="4267080"/>
            <a:ext cx="4256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upload.wikimedia.org/wikipedia/commons/1/18/BattleofNewOrleans2.jpg"/>
          <p:cNvPicPr/>
          <p:nvPr/>
        </p:nvPicPr>
        <p:blipFill>
          <a:blip r:embed="rId1"/>
          <a:stretch/>
        </p:blipFill>
        <p:spPr>
          <a:xfrm>
            <a:off x="0" y="230040"/>
            <a:ext cx="9144000" cy="647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ar of 18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roved to the world that the U.S. could defend itself against the mightiest military power of the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any Americans now believed that the country would survive and prosp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americanhistory.mrdonn.org/James-Monroe-Monroe-Doctrine.jpg"/>
          <p:cNvPicPr/>
          <p:nvPr/>
        </p:nvPicPr>
        <p:blipFill>
          <a:blip r:embed="rId1"/>
          <a:stretch/>
        </p:blipFill>
        <p:spPr>
          <a:xfrm>
            <a:off x="0" y="304920"/>
            <a:ext cx="919008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1447560"/>
            <a:ext cx="919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onroe Doctr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aid the Americas were closed to further colo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arned that any European efforts to reestablish colonies would be considered “dangerous to U.S. peace and safety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ecame important part of U.S. foreign polic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sed to justify many U.S. actions in the Western Hemisp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dition of Isolatio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f that the U.S. should stay out of other nation’s affairs except in matters of self-def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wwiandwwilson.wikispaces.com/file/view/SanePolicy.jpg/301518592/360x296/SanePolicy.jpg"/>
          <p:cNvPicPr/>
          <p:nvPr/>
        </p:nvPicPr>
        <p:blipFill>
          <a:blip r:embed="rId1"/>
          <a:stretch/>
        </p:blipFill>
        <p:spPr>
          <a:xfrm>
            <a:off x="2057400" y="2438280"/>
            <a:ext cx="5467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images.sodahead.com/polls/003415413/243767247_us20imperialism_xlarge.png"/>
          <p:cNvPicPr/>
          <p:nvPr/>
        </p:nvPicPr>
        <p:blipFill>
          <a:blip r:embed="rId1"/>
          <a:stretch/>
        </p:blipFill>
        <p:spPr>
          <a:xfrm>
            <a:off x="457200" y="1731960"/>
            <a:ext cx="8305920" cy="5126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an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nation's practice or policy of territorial or economic grow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981080" y="180972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natural resources might the US obtain through expan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ess to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ask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oil, timber, gold, copper and f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wa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ugar cane and pineap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u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ugar c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lathomps\AppData\Local\Microsoft\Windows\Temporary Internet Files\Content.IE5\1A33VABU\MC900437831[1].wmf"/>
          <p:cNvPicPr/>
          <p:nvPr/>
        </p:nvPicPr>
        <p:blipFill>
          <a:blip r:embed="rId1"/>
          <a:stretch/>
        </p:blipFill>
        <p:spPr>
          <a:xfrm>
            <a:off x="901800" y="0"/>
            <a:ext cx="92700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Tree"/>
          <p:cNvSpPr/>
          <p:nvPr/>
        </p:nvSpPr>
        <p:spPr>
          <a:xfrm>
            <a:off x="3276720" y="5203800"/>
            <a:ext cx="1123920" cy="1305000"/>
          </a:xfrm>
          <a:custGeom>
            <a:avLst/>
            <a:gdLst>
              <a:gd name="textAreaLeft" fmla="*/ 39600 w 1123920"/>
              <a:gd name="textAreaRight" fmla="*/ 1096560 w 1123920"/>
              <a:gd name="textAreaTop" fmla="*/ 1356840 h 1305000"/>
              <a:gd name="textAreaBottom" fmla="*/ 170892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C:\Users\lathomps\AppData\Local\Microsoft\Windows\Temporary Internet Files\Content.IE5\BKGZC5HF\MC900433919[1].png"/>
          <p:cNvPicPr/>
          <p:nvPr/>
        </p:nvPicPr>
        <p:blipFill>
          <a:blip r:embed="rId2"/>
          <a:stretch/>
        </p:blipFill>
        <p:spPr>
          <a:xfrm>
            <a:off x="685800" y="32306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www.fs.fed.us/wildflowers/ethnobotany/images/wildrelatives/sugar_cane_lg.jpg"/>
          <p:cNvPicPr/>
          <p:nvPr/>
        </p:nvPicPr>
        <p:blipFill>
          <a:blip r:embed="rId3"/>
          <a:stretch/>
        </p:blipFill>
        <p:spPr>
          <a:xfrm>
            <a:off x="6229440" y="2895480"/>
            <a:ext cx="2827080" cy="377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greywolf.critter.net/images/ad&amp;d/clipart/cloak-fur.jpg"/>
          <p:cNvPicPr/>
          <p:nvPr/>
        </p:nvPicPr>
        <p:blipFill>
          <a:blip r:embed="rId4"/>
          <a:stretch/>
        </p:blipFill>
        <p:spPr>
          <a:xfrm>
            <a:off x="4173480" y="3048120"/>
            <a:ext cx="184932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C:\Users\lathomps\AppData\Local\Microsoft\Windows\Temporary Internet Files\Content.IE5\BKGZC5HF\MC900436909[1].png"/>
          <p:cNvPicPr/>
          <p:nvPr/>
        </p:nvPicPr>
        <p:blipFill>
          <a:blip r:embed="rId5"/>
          <a:stretch/>
        </p:blipFill>
        <p:spPr>
          <a:xfrm>
            <a:off x="6900840" y="0"/>
            <a:ext cx="2243160" cy="224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http://www.antimicrobialcopper.com/media/330138/hutmen-rod.jpg"/>
          <p:cNvPicPr/>
          <p:nvPr/>
        </p:nvPicPr>
        <p:blipFill>
          <a:blip r:embed="rId6"/>
          <a:stretch/>
        </p:blipFill>
        <p:spPr>
          <a:xfrm>
            <a:off x="128520" y="4944960"/>
            <a:ext cx="2590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do I get more things to tra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9:24:24Z</dcterms:created>
  <dc:creator>LATHOMPS</dc:creator>
  <dc:description/>
  <dc:language>en-US</dc:language>
  <cp:lastModifiedBy>Vickie J. Dean</cp:lastModifiedBy>
  <dcterms:modified xsi:type="dcterms:W3CDTF">2017-01-13T13:22:22Z</dcterms:modified>
  <cp:revision>9</cp:revision>
  <dc:subject/>
  <dc:title>The Spanish American War</dc:title>
</cp:coreProperties>
</file>